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707-E814-4CE7-8110-7B073BD4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032-BB73-4AF5-A3CD-393AE11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7DC-656F-4372-8157-1C8C1DEF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A77-1FAA-4F48-90C9-9114487E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9C4-9202-4082-B841-D278C684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824-DBCB-4B08-BEA5-1D3A507E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92D-B11C-4B6C-A609-0DC34943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78D-6FBB-4E02-88F3-675CA2FB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467-34ED-4A89-92B5-51F499DF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ECF-6FBA-4C1C-85D5-F0FD5A2B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0BE-339F-487D-9205-6185776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60C-D398-47D8-BAAB-6C2333E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98729-88BF-43F5-BB39-AE35331347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e Point Persp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Name Pro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ock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Vanishing point any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Draw lightly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ILL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letter has a different </a:t>
            </a:r>
            <a:r>
              <a:rPr b="1" lang="en-GB" sz="2800" spc="-1" strike="noStrike">
                <a:solidFill>
                  <a:srgbClr val="000000"/>
                </a:solidFill>
                <a:latin typeface="comic"/>
              </a:rPr>
              <a:t>design in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letter has a different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e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cc00"/>
                </a:solidFill>
                <a:latin typeface="Arial"/>
              </a:rPr>
              <a:t>col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de out the same colors going into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nish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ay use colored pencils or water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00cc"/>
                </a:solidFill>
                <a:latin typeface="Arial"/>
              </a:rPr>
              <a:t>You only get one chance…so do it righ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785960"/>
            <a:ext cx="7924680" cy="5072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908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ving ISD</dc:creator>
  <dc:description/>
  <dc:language>en-US</dc:language>
  <cp:lastModifiedBy>Irving ISD</cp:lastModifiedBy>
  <cp:revision>0</cp:revision>
  <dc:subject/>
  <dc:title>Slide 1</dc:title>
</cp:coreProperties>
</file>